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C82B-A69C-4B57-8A08-25D1F495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41EC-6624-4950-9F46-9731A5EB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AF92-033C-4E02-8E4B-184C23D2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F4F5-07D5-4F16-8317-C112C600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2CEC-38EA-4B20-BB6E-286E3336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91C8-CDCF-44B7-AB0E-4ECAE8B3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CFBD-F3DB-4120-BBE5-99F6EF14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E2F3-E4E2-4F08-9F5E-9B20F476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7E76-6495-4D29-9FF1-E7C55E53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AFBE-969F-4E7C-AB86-BFBC9C00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790D-CDD9-4458-AE9C-B77D3698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3179-5EE1-4DA6-8B92-3A752357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4000"/>
            <a:ext cx="307980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A8DA7-EFEE-4B73-ADF7-8133B92EACF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vimi-blog1" descr=""/>
          <p:cNvPicPr/>
          <p:nvPr/>
        </p:nvPicPr>
        <p:blipFill>
          <a:blip r:embed=""/>
          <a:stretch/>
        </p:blipFill>
        <p:spPr>
          <a:xfrm>
            <a:off x="0" y="0"/>
            <a:ext cx="3600360" cy="3419640"/>
          </a:xfrm>
          <a:prstGeom prst="rect">
            <a:avLst/>
          </a:prstGeom>
          <a:ln w="0">
            <a:noFill/>
          </a:ln>
        </p:spPr>
      </p:pic>
      <p:pic>
        <p:nvPicPr>
          <p:cNvPr id="42" name="BlogPrestamos" descr=""/>
          <p:cNvPicPr/>
          <p:nvPr/>
        </p:nvPicPr>
        <p:blipFill>
          <a:blip r:embed=""/>
          <a:stretch/>
        </p:blipFill>
        <p:spPr>
          <a:xfrm>
            <a:off x="6119640" y="0"/>
            <a:ext cx="3600720" cy="3624120"/>
          </a:xfrm>
          <a:prstGeom prst="rect">
            <a:avLst/>
          </a:prstGeom>
          <a:ln w="0">
            <a:noFill/>
          </a:ln>
        </p:spPr>
      </p:pic>
      <p:pic>
        <p:nvPicPr>
          <p:cNvPr id="43" name="blog-masmoto" descr=""/>
          <p:cNvPicPr/>
          <p:nvPr/>
        </p:nvPicPr>
        <p:blipFill>
          <a:blip r:embed=""/>
          <a:stretch/>
        </p:blipFill>
        <p:spPr>
          <a:xfrm>
            <a:off x="6119640" y="3238560"/>
            <a:ext cx="3600720" cy="3240000"/>
          </a:xfrm>
          <a:prstGeom prst="rect">
            <a:avLst/>
          </a:prstGeom>
          <a:ln w="0">
            <a:noFill/>
          </a:ln>
        </p:spPr>
      </p:pic>
      <p:pic>
        <p:nvPicPr>
          <p:cNvPr id="44" name="blog012" descr=""/>
          <p:cNvPicPr/>
          <p:nvPr/>
        </p:nvPicPr>
        <p:blipFill>
          <a:blip r:embed=""/>
          <a:stretch/>
        </p:blipFill>
        <p:spPr>
          <a:xfrm>
            <a:off x="0" y="3059280"/>
            <a:ext cx="3600360" cy="3419280"/>
          </a:xfrm>
          <a:prstGeom prst="rect">
            <a:avLst/>
          </a:prstGeom>
          <a:ln w="0">
            <a:noFill/>
          </a:ln>
        </p:spPr>
      </p:pic>
      <p:pic>
        <p:nvPicPr>
          <p:cNvPr id="45" name="deer-blog" descr=""/>
          <p:cNvPicPr/>
          <p:nvPr/>
        </p:nvPicPr>
        <p:blipFill>
          <a:blip r:embed=""/>
          <a:stretch/>
        </p:blipFill>
        <p:spPr>
          <a:xfrm>
            <a:off x="3419640" y="3419640"/>
            <a:ext cx="3240000" cy="3033720"/>
          </a:xfrm>
          <a:prstGeom prst="rect">
            <a:avLst/>
          </a:prstGeom>
          <a:ln w="0">
            <a:noFill/>
          </a:ln>
        </p:spPr>
      </p:pic>
      <p:pic>
        <p:nvPicPr>
          <p:cNvPr id="46" name="zumo-blogs" descr=""/>
          <p:cNvPicPr/>
          <p:nvPr/>
        </p:nvPicPr>
        <p:blipFill>
          <a:blip r:embed=""/>
          <a:stretch/>
        </p:blipFill>
        <p:spPr>
          <a:xfrm>
            <a:off x="3060720" y="0"/>
            <a:ext cx="3779640" cy="3419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2360" y="2200320"/>
            <a:ext cx="874728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846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BLO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5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85640" y="1561680"/>
            <a:ext cx="874728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2009-11-23_105725" descr=""/>
          <p:cNvPicPr/>
          <p:nvPr/>
        </p:nvPicPr>
        <p:blipFill>
          <a:blip r:embed=""/>
          <a:stretch/>
        </p:blipFill>
        <p:spPr>
          <a:xfrm>
            <a:off x="1309680" y="1619280"/>
            <a:ext cx="71517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5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Terc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72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emborronada" descr=""/>
          <p:cNvPicPr/>
          <p:nvPr/>
        </p:nvPicPr>
        <p:blipFill>
          <a:blip r:embed=""/>
          <a:stretch/>
        </p:blipFill>
        <p:spPr>
          <a:xfrm>
            <a:off x="1447920" y="1440000"/>
            <a:ext cx="6651360" cy="44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85640" y="258840"/>
            <a:ext cx="8747280" cy="55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Calibri"/>
              </a:rPr>
              <a:t>COMO PERSONALIZARL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2009-12-08_122523" descr=""/>
          <p:cNvPicPr/>
          <p:nvPr/>
        </p:nvPicPr>
        <p:blipFill>
          <a:blip r:embed=""/>
          <a:stretch/>
        </p:blipFill>
        <p:spPr>
          <a:xfrm>
            <a:off x="179280" y="720720"/>
            <a:ext cx="6480360" cy="4859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498560" y="2581200"/>
            <a:ext cx="521964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4" marL="2158920" indent="0">
              <a:lnSpc>
                <a:spcPct val="102000"/>
              </a:lnSpc>
              <a:spcAft>
                <a:spcPts val="28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Configuracion + elementos de pág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Diseñ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2009-12-08_122811" descr=""/>
          <p:cNvPicPr/>
          <p:nvPr/>
        </p:nvPicPr>
        <p:blipFill>
          <a:blip r:embed=""/>
          <a:stretch/>
        </p:blipFill>
        <p:spPr>
          <a:xfrm>
            <a:off x="957240" y="1459080"/>
            <a:ext cx="7862760" cy="340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20360" y="5219640"/>
            <a:ext cx="828036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cambiar los colores del b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2009-12-08_122834" descr=""/>
          <p:cNvPicPr/>
          <p:nvPr/>
        </p:nvPicPr>
        <p:blipFill>
          <a:blip r:embed=""/>
          <a:stretch/>
        </p:blipFill>
        <p:spPr>
          <a:xfrm>
            <a:off x="933480" y="360360"/>
            <a:ext cx="8067600" cy="4576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85640" y="5186520"/>
            <a:ext cx="8694720" cy="93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 para cambiar las plantillas de tu b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Calibri"/>
              </a:rPr>
              <a:t>Por últim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72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o crear una entr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85640" y="5052600"/>
            <a:ext cx="869472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2009-12-08_122856" descr=""/>
          <p:cNvPicPr/>
          <p:nvPr/>
        </p:nvPicPr>
        <p:blipFill>
          <a:blip r:embed=""/>
          <a:stretch/>
        </p:blipFill>
        <p:spPr>
          <a:xfrm>
            <a:off x="1260360" y="720720"/>
            <a:ext cx="70866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85640" y="5208120"/>
            <a:ext cx="86947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ambién si deseas pudes añadir a tu blog imágenes/fotos y ví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2009-12-08_122948" descr=""/>
          <p:cNvPicPr/>
          <p:nvPr/>
        </p:nvPicPr>
        <p:blipFill>
          <a:blip r:embed=""/>
          <a:stretch/>
        </p:blipFill>
        <p:spPr>
          <a:xfrm>
            <a:off x="1390680" y="135000"/>
            <a:ext cx="7429320" cy="49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1640" y="2459160"/>
            <a:ext cx="874728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ALGUNOS TÉRMINOS RELACIONADOS CON LOS BLOG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640" y="539280"/>
            <a:ext cx="874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¿QUÉ ES UN BLOG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66720" y="1618920"/>
            <a:ext cx="8874000" cy="450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Sitio web donde un autor (o varios) expone textos, artículos o cualquier otra cos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85640" y="258840"/>
            <a:ext cx="8747280" cy="55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Audiblog: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Blog hecho con elementos de son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Blogero: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dice de aquella persona que tiene un Bl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Blogosfera: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El conjunto de millones de Bl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Post: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Cada una de las aportaciones, anotaciones o artículos que componen un Bl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85640" y="258840"/>
            <a:ext cx="8747280" cy="55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Trackback: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Enlace directo a un post de un B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Weblog: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alabra inicial que por contracción daría Bl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274840"/>
            <a:ext cx="874728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érmino inglés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blo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weblo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proviene de las palabras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web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lo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('log' en inglés =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diario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HISTOR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59280" y="1573200"/>
            <a:ext cx="426888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scribió su blog personal desde 199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54000" y="1619280"/>
            <a:ext cx="3544920" cy="39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640" y="303120"/>
            <a:ext cx="8747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PARA QUÉ SIRVE UN BLO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1440000"/>
            <a:ext cx="43196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n blog sirve básicamente como diario donde todo el mundo puede ver lo que publiques en dicho di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219640" y="1355760"/>
            <a:ext cx="3959280" cy="476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85640" y="258840"/>
            <a:ext cx="8747280" cy="55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Calibri"/>
              </a:rPr>
              <a:t>Existen distintitos tipos de blog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log%20empresarial" descr=""/>
          <p:cNvPicPr/>
          <p:nvPr/>
        </p:nvPicPr>
        <p:blipFill>
          <a:blip r:embed=""/>
          <a:stretch/>
        </p:blipFill>
        <p:spPr>
          <a:xfrm>
            <a:off x="179280" y="179280"/>
            <a:ext cx="4011840" cy="4140360"/>
          </a:xfrm>
          <a:prstGeom prst="rect">
            <a:avLst/>
          </a:prstGeom>
          <a:ln w="0">
            <a:noFill/>
          </a:ln>
        </p:spPr>
      </p:pic>
      <p:pic>
        <p:nvPicPr>
          <p:cNvPr id="59" name="blog012" descr=""/>
          <p:cNvPicPr/>
          <p:nvPr/>
        </p:nvPicPr>
        <p:blipFill>
          <a:blip r:embed=""/>
          <a:stretch/>
        </p:blipFill>
        <p:spPr>
          <a:xfrm>
            <a:off x="4859280" y="179280"/>
            <a:ext cx="4500720" cy="4140360"/>
          </a:xfrm>
          <a:prstGeom prst="rect">
            <a:avLst/>
          </a:prstGeom>
          <a:ln w="0">
            <a:noFill/>
          </a:ln>
        </p:spPr>
      </p:pic>
      <p:pic>
        <p:nvPicPr>
          <p:cNvPr id="60" name="blog%20educativo" descr=""/>
          <p:cNvPicPr/>
          <p:nvPr/>
        </p:nvPicPr>
        <p:blipFill>
          <a:blip r:embed=""/>
          <a:stretch/>
        </p:blipFill>
        <p:spPr>
          <a:xfrm>
            <a:off x="2700360" y="2160720"/>
            <a:ext cx="4175280" cy="4206600"/>
          </a:xfrm>
          <a:prstGeom prst="rect">
            <a:avLst/>
          </a:prstGeom>
          <a:ln w="0">
            <a:noFill/>
          </a:ln>
        </p:spPr>
      </p:pic>
      <p:pic>
        <p:nvPicPr>
          <p:cNvPr id="61" name="blog%20personaaal" descr=""/>
          <p:cNvPicPr/>
          <p:nvPr/>
        </p:nvPicPr>
        <p:blipFill>
          <a:blip r:embed=""/>
          <a:stretch/>
        </p:blipFill>
        <p:spPr>
          <a:xfrm>
            <a:off x="1979640" y="360360"/>
            <a:ext cx="5759280" cy="57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00"/>
            </a:gs>
            <a:gs pos="100000">
              <a:srgbClr val="ff33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31640" y="360360"/>
            <a:ext cx="874728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COMO CREAR UN BLO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4319640"/>
            <a:ext cx="665964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oogle             blogger         crear un blog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ratu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60720" y="4680000"/>
            <a:ext cx="72072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40360" y="4680000"/>
            <a:ext cx="72072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5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Prim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85640" y="1561680"/>
            <a:ext cx="874728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blogger-crear-blog-boton" descr=""/>
          <p:cNvPicPr/>
          <p:nvPr/>
        </p:nvPicPr>
        <p:blipFill>
          <a:blip r:embed=""/>
          <a:stretch/>
        </p:blipFill>
        <p:spPr>
          <a:xfrm>
            <a:off x="1440000" y="1703520"/>
            <a:ext cx="6667200" cy="38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5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Segun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72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2009-11-23_105706" descr=""/>
          <p:cNvPicPr/>
          <p:nvPr/>
        </p:nvPicPr>
        <p:blipFill>
          <a:blip r:embed=""/>
          <a:stretch/>
        </p:blipFill>
        <p:spPr>
          <a:xfrm>
            <a:off x="1898640" y="1260360"/>
            <a:ext cx="5842080" cy="468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7:30:18Z</dcterms:created>
  <dc:creator>Rosa </dc:creator>
  <dc:description/>
  <dc:language>en-US</dc:language>
  <cp:lastModifiedBy>Rosa </cp:lastModifiedBy>
  <dcterms:modified xsi:type="dcterms:W3CDTF">2009-12-09T18:07:03Z</dcterms:modified>
  <cp:revision>13</cp:revision>
  <dc:subject/>
  <dc:title/>
</cp:coreProperties>
</file>